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792C-55EA-4E53-AD4C-046C06C032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3CAB-5A80-463A-8575-777B170C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83C1C2-B830-4E8E-98DD-A9F3E4D8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CB7883-2C84-4A2B-A0B2-71AC44C5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A4FEDC-7F03-4A5C-8D2F-E3A3D99C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315EB8-E694-46AA-BC40-EFE74942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C4B1DF-2B34-499C-B04F-8ABCDF2E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8894E2-E5C6-4511-B3DF-92E8CB89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EDD9FC-8BDC-48F3-9BE2-D30B746C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C25780-8802-4179-B368-B8A4BEEE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4236FB-18B2-41ED-B1CA-C5140570AA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F88E3-93BB-4D8C-8896-12FCA325BA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A11F2-5512-4902-81C9-7B7A3B3E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A10A7-6265-46F8-824E-173A108E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1AA0B-97AF-44D3-B5E2-BC5D8E2F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C2996-A944-4592-BC68-BCE33EDF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C531D-1A3C-472A-8B98-5266840C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B24F3-ED9F-44B5-A028-261BBA36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D14DC-3FE2-4E0B-971E-5EF5B8F6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43296-B7C8-4A2B-AF82-F94E1885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9DD70-2BF9-414A-91E2-3213EC1C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44B51-9D46-4B4F-9A35-80DE50DE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ED5E9-0D8A-4C38-B3B2-65DA4FCF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8FE2-137E-4D69-9192-EABD6CC6EC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61B7D-B143-415E-A02F-1E6B7B943B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9D8D1B-44AC-4436-A1F5-A5A78CC260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897D34-B89E-40D3-8A0A-BD0B888D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6BF5F1-F14F-43B1-B496-1353F2E8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CC1481-1ECE-4D73-8295-F84D2801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7922D7-C06F-49BA-86EE-2BDFAD4C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903183-E7D5-4F41-903F-5903761F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A2922D-A7B3-4919-A580-0A57BB49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EF5ADF-9CA9-49A8-882A-60D41888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C8DDCB-CCB6-4A2C-B7C8-1D94B296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3E777-38FF-486D-89FB-DEBFCDD4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7E6483-B0B1-4159-AF2B-693C5190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E186DA-1223-445A-8981-A0D57D3D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13AF4F-2694-4281-9997-C74EFF5644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CB455-BD68-434A-8EDA-C6108A62A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5A3D0-8E77-4E7E-ACC3-6B51BF6D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DB23F-05E0-4EE2-BE20-170C9D6D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70287-ABEE-4C7B-BF4A-AC93873C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BD8D2-EB52-4A6B-8A4D-01F15C35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E54B8-B5D7-4A21-9708-7B151285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4450D-F114-4D9E-9CC9-FCB7A155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AA225-D71F-4C17-A02B-BB3F2C5F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21450-860B-4359-A271-7D276561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4CB83-B624-4FD2-A664-2226785B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0D12D-98CC-4CCA-86AE-00E9C4DB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99DA5-71AA-4280-BD0E-33FCE40B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EB678-687C-4958-92A9-1E69CCCEB0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FA446-A01F-45F1-BF68-DA7FD36C6B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13F73-BE70-4730-A6D0-003F5290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D9516-8FE5-41B0-8C34-720E086C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12E90-CC81-4453-B5C3-67509E26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80481-02DA-4BFA-A5F7-2B0BCD69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16273-B40C-414F-9B4B-BF3CE56E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0DD58-B9EE-4C95-97EC-715F7213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F7F22-38CC-44F8-8894-75DEC37A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4ED72-DB7A-455A-AF8B-F4D00860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D8FCB-7C5A-4C9D-8679-A9B68056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5FB69-DBE0-42A5-B45A-43A06CC8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8E340-6EF5-4D75-BFC2-E61ADE05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E0B13-0031-452F-A3AE-F80CCA04CC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8F776-849A-45C2-B103-A1D4C04F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CCC9D-E0AF-48C3-A29C-B3039A92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6D995-C2F4-45F7-A0A4-9865BE97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E967A-6A6E-49F4-AC72-458FBE74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18C1F-57DD-465D-90D1-18E29FFE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7E30D-E236-4FAB-92C7-0E8BAE2D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D2DA1-7244-473E-A8A0-16C6ADB9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6DD7B-64E9-448F-AEE5-5B2A93BB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461CB-7A73-40D3-9DA1-B1D8208F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A30FE-12C4-4C0C-AD71-9809631A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C0FDE-3128-4177-A69B-F0C06938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CE8AC-3931-4441-9E2D-C7DF725A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A9265-0978-42E5-8548-36A9451A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6237D-071B-4395-A466-BED397C0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91829-8598-4A1A-AF33-1FE03762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0FFB4-737A-4A44-8D17-56F2C63F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DD9E9-B15E-45FA-8F78-6BD98A2E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27821-0BFF-4572-A28B-CFA7A8A2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0EDDB-005C-4418-ACBC-025029F2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184ED-0761-4D70-8B76-89F05DE7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3221E-8222-4B01-8402-B170B531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1576C-F1A7-4933-AB5D-6B55F8A8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92FB5-BBBC-463C-960A-1DB91B64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43B5E-C764-455C-864D-5C19D416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36F6B-DBA9-4931-8409-E99D8775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CA892-8DE3-4F03-93F7-B01A51CC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3C3CB-F21F-4F6C-BD79-7C97B5B5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9DFD6-2909-4652-B5CF-0C31ACED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80C02-F6C2-4B3E-805B-75FED08F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F6FB5-D16A-4DA8-A7BA-4AF6C5F0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71900-85A1-4AA9-806D-1506A6BC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F81C9-FABA-4705-92BC-7CB38A2D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B102D-62F1-4FA0-8B05-08594398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ADFB4-8A2B-4799-83F7-A09328A1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ADF27-DF9A-45FD-91CC-D5BE9C98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36FD3-BA1F-430C-A53F-34EEDB2F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1EEB0-9F21-4629-8746-B771E4E5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DB71B-3A66-48B6-B314-37180DE6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F2002-600F-408D-8C64-04B1291E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36E6C-49A4-4DFA-9409-FEDBB6D5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3BB0D-9C50-4176-BA22-10D52C7B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7C603-F0D1-42F0-9885-D9E31CAB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9916C-2657-4965-B614-DB9572FA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BE4F3-EFDF-433E-87C2-F27D75C0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F6A3A-6461-4A6A-ACBA-93BD0C52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EA398-BAFD-4875-A0E0-920374A3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39A9A-B4A4-4439-AB78-C2323AC5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38082-4819-4486-AE7B-DFD6F5FD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605DC-F779-4E2F-943C-B4B2E50A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A11A3-5FC4-4357-A703-24967784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85F4A-7E25-4F39-B5AB-9B0A6E88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DB507-35AB-4EB0-A312-291CC29E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52051-F46C-4C81-94C8-F4374F4E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277E6-5294-4B14-B3A6-C276339F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EBA80C-9A8D-452E-BAF0-ABBAE423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A7856-B548-4662-BC82-F344493E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43361-5797-45BD-ADAD-D6CB1BEA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5EB56-1B31-4870-8BFC-926CC628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69B903-5C1B-491F-AFEB-18374D73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FDBE3-EBC3-47DF-B117-AC7AB053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A134C-A1AB-4B38-B49B-30B8C92E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7BBAB-735B-442D-80B6-45CFB9F9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FA90D-5DC6-4305-A3CA-F8E628AB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8EB90E-19F0-437F-AB52-16329FE7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B9B1C5-92D4-4555-B77B-EB05D518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6351C-B2D7-47EF-8960-66F91639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536D8-CA86-4B39-B17E-FE99D5D8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788FF9-F06B-4648-A29B-57D5D671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E5A63-D893-41F4-8DEA-BDE35EE8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1E8BE-87B1-4948-AFE3-6E90D3D1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941AD-2033-4679-8657-96E54B6C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571C5E-5900-474D-81C3-8D9728C8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97650-E8DB-4007-A73A-85989F73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B226E-B55C-4552-8C79-B15B0A74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F1F0D-8E93-4CE3-9F58-04D5B903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02B4C2-BDE9-4AC5-B5E1-6136BA54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0A63E-67F1-41E9-849E-A738B3B1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71BED-AE4C-424A-A3E4-A038BE7D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283207-28EB-4F8F-AB17-0A480112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F1DAC-FFDA-4C43-9975-A7581858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9E0AC-81A8-480A-9B1F-4A81296F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E4328-3CE7-4A0D-BA35-D1ADD1A8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7105DA-1F0A-44E7-9B27-A73C34AA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E7264-2247-42FB-BD72-ECCB5F26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A9D194-421D-4CF7-965C-4C8DECBA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80F777-3417-46E6-9AF7-5F223CF0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2AC48-2FB8-44AE-AB2C-4BD8CC0C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EF5E5-20A9-48D2-B044-2907D8A2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55F639-72B9-488A-B1C9-8750EF17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F7D9B8-1F69-466E-BD76-40FC1B5F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4169D0-1F0D-4065-A061-351D0D18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BE6B52-133A-4BC8-AEF9-F3FEC6AA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FCF5D-F606-4F3F-9EB4-C7A36B22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DC39A-959C-49AA-8E25-82FA9A60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B0671-46E8-4CD4-9B64-72CF205D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A0535-F7C6-4602-A5AE-7D7E91DA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1DB97-0FBC-43D1-B568-CA19028C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1011F8-5C13-4C72-98A8-B6E9F144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5FE539-2CDC-4D4F-8B14-B73D1944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9253F4-19D8-4152-BA6B-2C37C1F4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08E84-8913-445D-82E3-8A01BAAA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D6BE06-9E11-42BA-9460-1AC7870E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8BE09-8056-4A58-A3EA-D31EB95A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39AA4E-8D60-47E9-BC75-A8F2CAA3C8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13F6C-EB94-4F79-BBA2-0C982296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E40709-640C-48BA-B766-08686053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E2A502-6288-44C6-BBA1-87CDBC02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678A7-8D17-4DDF-AE2D-39B1D9FE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57A6BA-480A-4F4D-908A-DF058465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8CEEB7-1DFB-4DED-B438-95B27959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4C0B83-08F7-4F07-A9F1-06F32FD7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3AEDAF-FB89-4B98-BC52-284C0037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CC0199-4812-4B95-9507-1928F747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DEFB5-B4A9-4ADE-956B-D0586189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967136-1D73-467B-A4CD-6025A1DD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8A7EA0-F9B4-4F86-AFA0-53CF79D0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DE7C42-3FE8-4E1E-95BF-0A03A6DC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1B690-7B5F-4FAF-BF83-589C9FAA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0E18B-A54B-4B50-B807-F2654F6A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CCA74-7B7B-4B87-8770-A10FEB2D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85BEF1-5255-450B-8BDA-38BF9A26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FAAFF8-D310-4D3A-A70B-B39FFB67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BD3D06-7753-4F35-82E6-C84A5281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CF7AB5-D2E6-4D8A-9E48-87C76425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E0BDB-875D-4314-B6B4-83DD5806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C85CE5-5272-4DE9-BEBB-F07A2D09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8709B4-FD5A-4356-AED5-BB26D700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107975-3836-4718-8424-5685BC42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321F1-AA2E-439B-B328-F268629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89C507-697B-4731-9EDF-DBA90D8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87126-C215-41F6-B212-0B8DEC66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BD1EEB-8A98-47F6-BC50-D3C98678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F5B69-B351-4E45-9FFA-5078525E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3B3E02-4139-4870-B70B-338C9D80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FF4152-6E5A-487E-831B-17A1EA68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E9A45-943F-49BB-A233-3C42B6B1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2DF90-8B6A-4CA0-921B-9328CE8A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52FB48-1A0D-4BE7-A899-3A8623B9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B67D3F-CC74-4A23-A059-6CBEA1DE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DBC3F6-7592-404E-85C5-5F3772DD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043EBD-8974-4811-B82C-5D3A00D7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72F98B-EFCF-4177-84B6-4D56D169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370CD4-E048-411A-860E-7E292246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806E5-E2D3-4A4C-A64C-054683A9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74060-949C-4722-AA2E-8F788D8D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47BEA0-E4AB-4917-9B1F-AF5551C0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23F1F-5669-45F8-9651-302D92BA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16F6-7243-4F04-974D-FB5CA2F7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589E2F-CA3F-4373-9D8E-A19BF525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6DF6D4-9175-4FFC-A72A-AD00206C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91B616-C37B-4832-A829-6F67D911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28AB5-7A14-4D2C-A974-FD1BFA89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A03B5-8299-4C38-B29D-B8D061BE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11AB51-B560-48C5-8C3B-B8D4DDA6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DADCBE-307E-4F22-A7DA-B802B23869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226BC-3BF7-4459-9620-30A7399843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A58E7-EA3F-4588-A36F-C0CC6EA7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6919-3E2F-4502-9AF6-730C4127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89A6F-CADE-4415-8535-BD3EA9D1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01A5-1D43-4081-A69A-31CC6718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A856-2CFE-4112-93F4-1720D8F9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D3FF4-781F-4FA0-8C78-BE92476D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E6C9E-B3C2-4BD3-94AB-2BF8DFBF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8A09F-6C24-4307-BE8F-9F4EB6DB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A36E9-4CEA-4F06-A67B-911786D6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863DC-98F0-42E6-85BE-79862A07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2DFA-C20E-4F5D-82CD-8917BA91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977B6-34CF-4576-8D2A-78A5257134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C08EB-6FB7-4DE0-976B-CE394620AC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2513-D38C-4B2C-B3B8-AEC11F46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7CE92-6721-4A88-9286-0BDCE00F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0F31C-B560-43F8-82EB-D0553B5F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BC794-891C-4839-B8AB-C12C6617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725678-4314-4F0C-9E5D-FE0A9644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B132B-FE23-486E-8EA5-C3F06C20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E8AB2E-14E5-47F1-8677-C45AD1F2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19FA1-7F28-4303-B1C6-EB5FD0DF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7AE0DE-0FD5-44D6-A687-9EF6A801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D7A43-3BFB-4521-B9AE-A3A9BE87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498F7F-8546-40C9-8658-747278D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6915-83F4-4813-A95B-52F1CB08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90923-189A-4429-BF9D-D0A8F38A12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8AEF21-920D-4046-9E82-4759FB78AB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D12195-AD7D-4B70-AC00-8095B6D9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E04595-04FF-430F-95E6-C18B44C1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A5CA84-1B24-4571-B1C2-6A2E824B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913505-ABD1-47BA-B881-F3AA38F5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6FF2D1-1B4F-42C9-A6FD-BC1D7D04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6C983D-622B-4353-8022-E80854FC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84465A-7A90-4BCC-9C21-D29F0115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7C76CE-1D2C-45D5-B7AE-F0D3E6C5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2E344-5862-4400-B927-6E0B4D36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2FEBED-B217-4596-98EE-8F3D4397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0551DD-79B2-4E2E-8B4F-981201E1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9381F9-31DD-4AB1-BCFA-1471E51E37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C481E-3C28-41A4-9535-1BA10180BC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C2A9B-9465-4E00-9147-7CD97E19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13D2C-A492-408F-B12E-ECCC3FD8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39447-CF31-4841-9F7D-09A594BB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33786-5CE1-4FEF-A927-5CA5FBB2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1158E-B88B-4C89-9E95-0D5D1E5E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B4E22-BF3C-41B2-A06A-EAEBDD85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F6B2-5520-4A77-8693-E2E05FF5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75E30-D1F8-4006-9178-9946950F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B26AC-5052-477F-A3B2-686E798F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065FB-C1AB-4D36-8FFD-E01B2A28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C65FE-5911-40D9-B283-0CA3364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EDAF3-F42A-46CE-B286-4F5799FCC0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C4592A-4D17-4006-ACC9-60CC5A05CC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462E56-C63F-4489-8833-DA9F87AB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F27FB-ECCE-464E-808D-2D0FF8A1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2BBB6-DD77-42B1-A68C-FC3B20CD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C3BBA-6B30-4032-BC1C-787FB596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97BDA-11ED-4E82-9D7D-AE46307D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87262A-0DAC-4111-BFBB-DBFA0704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BAC00-81FC-4D21-8C96-772308E1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5C82E1-9017-4B6B-9F17-B0B873D7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4EBF8-2280-483F-88D7-FC94BDF8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51559E-701E-4F3A-BDD5-39B248D0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0D5602-F22D-45ED-9139-E58C564D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2C88DE-0D93-41D5-9C8B-807B6E983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47EDBF-BB49-4004-BC78-79341C5A00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1BCBB6-9813-4E96-B800-0B8E9A42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BEB9D0-2C95-4A9A-94E5-94651CFB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92E7-53EB-4F63-81BD-5A6781A0FE1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14A1-68FB-48C1-A975-E49DA922B9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F176-3D04-4B2A-91EF-5F17A386D5D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E929-EE9F-4688-AD75-66D9D578CB2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B284-94AD-4020-8403-CCCC74BAA6B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9E99-A849-49D7-AA42-B91ED357328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6B31-73BC-4894-BC93-7E517ADB325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8078-037F-416F-AE2B-B7295A75AC8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6D9C-235A-4E4E-B519-AE07E9160E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0BA2-4EC0-4946-8B80-2F75EBA4A02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DD99-BF1E-4AF0-A23E-8C9F29B3847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7B56-C98B-439D-86D0-9D12216C25A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9649-CAB7-47D1-A83F-EC413D5BCC9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4537-BCC0-4233-AC60-205AD09309F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41C6-9A71-49B7-A82F-7FD5ADFFFA7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3FFB-3655-4CF8-9F2B-16290C58E08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8C00-4E84-4120-8EE6-6D6BA659AE7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4286-8772-4538-AA85-BBB3C61DBF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DE4C-6A65-4233-88DC-81E82E01A47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1A14-3EEB-4257-A88F-600D7051DF3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02F1-46D7-4326-9AB1-4D19E74768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FC6E-D739-4B47-BD9E-210DCF5DA1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1A82-923A-4A67-883F-D5E63270D13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7BFE-3509-4D86-AB9F-5BD568EFB30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927080" y="282744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135000" y="2771640"/>
            <a:ext cx="8443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认 识 米   用 米 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078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度单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365040" y="107784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、我会比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      里填上“＞”、“＜”或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下列长度按从大到小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7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9" name="椭圆 8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0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1" name="椭圆 10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2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3" name="圆角矩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圆角矩形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圆角矩形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7" name="文本框 11"/>
          <p:cNvSpPr/>
          <p:nvPr/>
        </p:nvSpPr>
        <p:spPr>
          <a:xfrm>
            <a:off x="1462320" y="4957920"/>
            <a:ext cx="60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60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米＞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米＞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66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厘米＞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60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厘米＞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厘米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18"/>
          <p:cNvSpPr/>
          <p:nvPr/>
        </p:nvSpPr>
        <p:spPr>
          <a:xfrm>
            <a:off x="188172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文本框 19"/>
          <p:cNvSpPr/>
          <p:nvPr/>
        </p:nvSpPr>
        <p:spPr>
          <a:xfrm>
            <a:off x="5889240" y="22795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文本框 20"/>
          <p:cNvSpPr/>
          <p:nvPr/>
        </p:nvSpPr>
        <p:spPr>
          <a:xfrm>
            <a:off x="1968120" y="2913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21"/>
          <p:cNvSpPr/>
          <p:nvPr/>
        </p:nvSpPr>
        <p:spPr>
          <a:xfrm>
            <a:off x="4883400" y="286704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椭圆 22"/>
          <p:cNvSpPr/>
          <p:nvPr/>
        </p:nvSpPr>
        <p:spPr>
          <a:xfrm>
            <a:off x="1085760" y="1727280"/>
            <a:ext cx="482760" cy="507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椭圆 23"/>
          <p:cNvSpPr/>
          <p:nvPr/>
        </p:nvSpPr>
        <p:spPr>
          <a:xfrm>
            <a:off x="1830240" y="2332080"/>
            <a:ext cx="482760" cy="507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椭圆 24"/>
          <p:cNvSpPr/>
          <p:nvPr/>
        </p:nvSpPr>
        <p:spPr>
          <a:xfrm>
            <a:off x="5838840" y="2360520"/>
            <a:ext cx="482760" cy="507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椭圆 25"/>
          <p:cNvSpPr/>
          <p:nvPr/>
        </p:nvSpPr>
        <p:spPr>
          <a:xfrm>
            <a:off x="1979640" y="2948040"/>
            <a:ext cx="480960" cy="506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椭圆 26"/>
          <p:cNvSpPr/>
          <p:nvPr/>
        </p:nvSpPr>
        <p:spPr>
          <a:xfrm>
            <a:off x="4834080" y="2943360"/>
            <a:ext cx="482400" cy="50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 txBox="1"/>
          <p:nvPr/>
        </p:nvSpPr>
        <p:spPr>
          <a:xfrm>
            <a:off x="1571760" y="1569960"/>
            <a:ext cx="600048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一节课我们学习的长度单位是什么？量比较短的物体可以用什么测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文本框 3078"/>
          <p:cNvSpPr/>
          <p:nvPr/>
        </p:nvSpPr>
        <p:spPr>
          <a:xfrm>
            <a:off x="2822400" y="3586320"/>
            <a:ext cx="391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同学们在刻度尺上指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厘米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厘米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厘米的实际长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组合 2"/>
          <p:cNvGrpSpPr/>
          <p:nvPr/>
        </p:nvGrpSpPr>
        <p:grpSpPr>
          <a:xfrm>
            <a:off x="0" y="101520"/>
            <a:ext cx="4890960" cy="527040"/>
            <a:chOff x="0" y="101520"/>
            <a:chExt cx="4890960" cy="527040"/>
          </a:xfrm>
        </p:grpSpPr>
        <p:pic>
          <p:nvPicPr>
            <p:cNvPr id="1001" name="圆角矩形 2" descr=""/>
            <p:cNvPicPr/>
            <p:nvPr/>
          </p:nvPicPr>
          <p:blipFill>
            <a:blip r:embed="rId1"/>
            <a:stretch/>
          </p:blipFill>
          <p:spPr>
            <a:xfrm>
              <a:off x="241560" y="101520"/>
              <a:ext cx="46494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2" name="组合 4"/>
            <p:cNvGrpSpPr/>
            <p:nvPr/>
          </p:nvGrpSpPr>
          <p:grpSpPr>
            <a:xfrm>
              <a:off x="0" y="196560"/>
              <a:ext cx="653400" cy="274320"/>
              <a:chOff x="0" y="196560"/>
              <a:chExt cx="653400" cy="274320"/>
            </a:xfrm>
          </p:grpSpPr>
          <p:sp>
            <p:nvSpPr>
              <p:cNvPr id="1003" name="椭圆 4"/>
              <p:cNvSpPr/>
              <p:nvPr/>
            </p:nvSpPr>
            <p:spPr>
              <a:xfrm rot="16200000">
                <a:off x="277200" y="350640"/>
                <a:ext cx="105480" cy="13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16160" y="286920"/>
                <a:ext cx="237240" cy="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椭圆 7"/>
              <p:cNvSpPr/>
              <p:nvPr/>
            </p:nvSpPr>
            <p:spPr>
              <a:xfrm rot="16200000">
                <a:off x="277200" y="215280"/>
                <a:ext cx="105480" cy="13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6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416160" y="206640"/>
                <a:ext cx="237240" cy="8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8440"/>
                <a:ext cx="575640" cy="7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78280"/>
                <a:ext cx="575640" cy="7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6360"/>
                <a:ext cx="575640" cy="7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575640" cy="7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1" name="Text Box 5"/>
          <p:cNvSpPr/>
          <p:nvPr/>
        </p:nvSpPr>
        <p:spPr>
          <a:xfrm>
            <a:off x="754200" y="1238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景，新知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文本框 4102"/>
          <p:cNvSpPr/>
          <p:nvPr/>
        </p:nvSpPr>
        <p:spPr>
          <a:xfrm>
            <a:off x="743040" y="4941720"/>
            <a:ext cx="76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量比较长的物体，通常用“米”作单位。米可以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”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4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6" name="椭圆 6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7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椭圆 8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4" name="Picture 15" descr="E:\2015春（伍倩倩）\六年级上册课件\小男孩.jpg"/>
          <p:cNvPicPr/>
          <p:nvPr/>
        </p:nvPicPr>
        <p:blipFill>
          <a:blip r:embed="rId8"/>
          <a:stretch/>
        </p:blipFill>
        <p:spPr>
          <a:xfrm>
            <a:off x="7674120" y="1630440"/>
            <a:ext cx="1000080" cy="1611360"/>
          </a:xfrm>
          <a:prstGeom prst="rect">
            <a:avLst/>
          </a:prstGeom>
          <a:ln w="0">
            <a:noFill/>
          </a:ln>
        </p:spPr>
      </p:pic>
      <p:sp>
        <p:nvSpPr>
          <p:cNvPr id="1025" name="TextBox 21"/>
          <p:cNvSpPr/>
          <p:nvPr/>
        </p:nvSpPr>
        <p:spPr>
          <a:xfrm>
            <a:off x="6578640" y="1630440"/>
            <a:ext cx="95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量一量，黑板有多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圆角矩形标注 27"/>
          <p:cNvSpPr/>
          <p:nvPr/>
        </p:nvSpPr>
        <p:spPr>
          <a:xfrm>
            <a:off x="6473880" y="1706400"/>
            <a:ext cx="1128600" cy="1249560"/>
          </a:xfrm>
          <a:prstGeom prst="wedgeRoundRectCallout">
            <a:avLst>
              <a:gd name="adj1" fmla="val 60004"/>
              <a:gd name="adj2" fmla="val -1134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内容占位符 7184" descr="18"/>
          <p:cNvPicPr/>
          <p:nvPr/>
        </p:nvPicPr>
        <p:blipFill>
          <a:blip r:embed="rId9"/>
          <a:stretch/>
        </p:blipFill>
        <p:spPr>
          <a:xfrm>
            <a:off x="652320" y="1374840"/>
            <a:ext cx="5821560" cy="2527200"/>
          </a:xfrm>
          <a:prstGeom prst="rect">
            <a:avLst/>
          </a:prstGeom>
          <a:ln w="0">
            <a:noFill/>
          </a:ln>
        </p:spPr>
      </p:pic>
      <p:sp>
        <p:nvSpPr>
          <p:cNvPr id="1028" name="八边形 1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4" descr="u=2444860668,2519732933&amp;fm=23&amp;gp=0.jpg"/>
          <p:cNvPicPr/>
          <p:nvPr/>
        </p:nvPicPr>
        <p:blipFill>
          <a:blip r:embed="rId1"/>
          <a:stretch/>
        </p:blipFill>
        <p:spPr>
          <a:xfrm>
            <a:off x="4929120" y="2997360"/>
            <a:ext cx="3589560" cy="22860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5125" descr="米尺"/>
          <p:cNvPicPr/>
          <p:nvPr/>
        </p:nvPicPr>
        <p:blipFill>
          <a:blip r:embed="rId2"/>
          <a:stretch/>
        </p:blipFill>
        <p:spPr>
          <a:xfrm>
            <a:off x="539640" y="1773360"/>
            <a:ext cx="8026560" cy="520560"/>
          </a:xfrm>
          <a:prstGeom prst="rect">
            <a:avLst/>
          </a:prstGeom>
          <a:ln w="0">
            <a:noFill/>
          </a:ln>
        </p:spPr>
      </p:pic>
      <p:grpSp>
        <p:nvGrpSpPr>
          <p:cNvPr id="103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2" name="圆角矩形 3" descr=""/>
            <p:cNvPicPr/>
            <p:nvPr/>
          </p:nvPicPr>
          <p:blipFill>
            <a:blip r:embed="rId3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4" name="椭圆 6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5" name="椭圆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6" name="椭圆 8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7" name="椭圆 9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2" name="缺角矩形 16"/>
          <p:cNvSpPr/>
          <p:nvPr/>
        </p:nvSpPr>
        <p:spPr>
          <a:xfrm>
            <a:off x="1092240" y="3681360"/>
            <a:ext cx="222120" cy="192240"/>
          </a:xfrm>
          <a:custGeom>
            <a:avLst/>
            <a:gdLst>
              <a:gd name="textAreaLeft" fmla="*/ 22680 w 222120"/>
              <a:gd name="textAreaRight" fmla="*/ 199440 w 222120"/>
              <a:gd name="textAreaTop" fmla="*/ 22680 h 192240"/>
              <a:gd name="textAreaBottom" fmla="*/ 169560 h 192240"/>
            </a:gdLst>
            <a:ahLst/>
            <a:rect l="textAreaLeft" t="textAreaTop" r="textAreaRight" b="textAreaBottom"/>
            <a:pathLst>
              <a:path w="249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1351" y="21600"/>
                </a:lnTo>
                <a:arcTo wR="3600" hR="3600" stAng="10800000" swAng="5400000"/>
                <a:lnTo>
                  <a:pt x="249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34373"/>
              </a:gs>
            </a:gsLst>
            <a:lin ang="5400000"/>
          </a:gra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34"/>
          <p:cNvSpPr/>
          <p:nvPr/>
        </p:nvSpPr>
        <p:spPr>
          <a:xfrm>
            <a:off x="1405080" y="3511440"/>
            <a:ext cx="2404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宋体"/>
              </a:rPr>
              <a:t>一米有多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7411" descr="44444444444"/>
          <p:cNvPicPr/>
          <p:nvPr/>
        </p:nvPicPr>
        <p:blipFill>
          <a:blip r:embed="rId1"/>
          <a:stretch/>
        </p:blipFill>
        <p:spPr>
          <a:xfrm>
            <a:off x="824040" y="2225520"/>
            <a:ext cx="7493040" cy="1635120"/>
          </a:xfrm>
          <a:prstGeom prst="rect">
            <a:avLst/>
          </a:prstGeom>
          <a:ln w="0">
            <a:noFill/>
          </a:ln>
        </p:spPr>
      </p:pic>
      <p:sp>
        <p:nvSpPr>
          <p:cNvPr id="1045" name="文本框 17412"/>
          <p:cNvSpPr/>
          <p:nvPr/>
        </p:nvSpPr>
        <p:spPr>
          <a:xfrm>
            <a:off x="1718640" y="4869000"/>
            <a:ext cx="23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10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7" name="圆角矩形 3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49" name="椭圆 6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0" name="椭圆 7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1" name="椭圆 8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2" name="椭圆 9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7" name="八边形 1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8" name=""/>
          <p:cNvGraphicFramePr/>
          <p:nvPr/>
        </p:nvGraphicFramePr>
        <p:xfrm>
          <a:off x="457200" y="2079720"/>
          <a:ext cx="8229600" cy="1888920"/>
        </p:xfrm>
        <a:graphic>
          <a:graphicData uri="http://schemas.openxmlformats.org/drawingml/2006/table">
            <a:tbl>
              <a:tblPr/>
              <a:tblGrid>
                <a:gridCol w="3178080"/>
                <a:gridCol w="2737080"/>
                <a:gridCol w="23144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估一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量一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学书封面短边的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大约（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黑板的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大约（       ）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       ）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室的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大约（       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       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5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0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62" name="椭圆 6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4" name="椭圆 8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5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8" name="圆角矩形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9" name="圆角矩形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0" name="文本框 1"/>
          <p:cNvSpPr/>
          <p:nvPr/>
        </p:nvSpPr>
        <p:spPr>
          <a:xfrm>
            <a:off x="4753800" y="258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2"/>
          <p:cNvSpPr/>
          <p:nvPr/>
        </p:nvSpPr>
        <p:spPr>
          <a:xfrm>
            <a:off x="6962760" y="2584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组合 16"/>
          <p:cNvGrpSpPr/>
          <p:nvPr/>
        </p:nvGrpSpPr>
        <p:grpSpPr>
          <a:xfrm>
            <a:off x="4857840" y="3044880"/>
            <a:ext cx="2752200" cy="919800"/>
            <a:chOff x="4857840" y="3044880"/>
            <a:chExt cx="2752200" cy="919800"/>
          </a:xfrm>
        </p:grpSpPr>
        <p:sp>
          <p:nvSpPr>
            <p:cNvPr id="1073" name="文本框 4"/>
            <p:cNvSpPr/>
            <p:nvPr/>
          </p:nvSpPr>
          <p:spPr>
            <a:xfrm>
              <a:off x="4857840" y="3044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文本框 5"/>
            <p:cNvSpPr/>
            <p:nvPr/>
          </p:nvSpPr>
          <p:spPr>
            <a:xfrm>
              <a:off x="7114320" y="3045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文本框 11"/>
            <p:cNvSpPr/>
            <p:nvPr/>
          </p:nvSpPr>
          <p:spPr>
            <a:xfrm>
              <a:off x="4956840" y="3504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文本框 13"/>
            <p:cNvSpPr/>
            <p:nvPr/>
          </p:nvSpPr>
          <p:spPr>
            <a:xfrm>
              <a:off x="7246440" y="3504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8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0" name="椭圆 6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1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椭圆 8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3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8" name="文本框 1"/>
          <p:cNvSpPr/>
          <p:nvPr/>
        </p:nvSpPr>
        <p:spPr>
          <a:xfrm>
            <a:off x="957240" y="2244600"/>
            <a:ext cx="71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和厘米都是长度单位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厘米。量比较长的物体或距离时，应该用米尺量，用米作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365040" y="2006640"/>
            <a:ext cx="822960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量一个物体时，米尺的（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）刻度要对准物体的左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组合 4"/>
          <p:cNvGrpSpPr/>
          <p:nvPr/>
        </p:nvGrpSpPr>
        <p:grpSpPr>
          <a:xfrm>
            <a:off x="0" y="190440"/>
            <a:ext cx="441360" cy="326880"/>
            <a:chOff x="0" y="190440"/>
            <a:chExt cx="441360" cy="326880"/>
          </a:xfrm>
        </p:grpSpPr>
        <p:sp>
          <p:nvSpPr>
            <p:cNvPr id="1091" name="椭圆 11"/>
            <p:cNvSpPr/>
            <p:nvPr/>
          </p:nvSpPr>
          <p:spPr>
            <a:xfrm rot="16200000">
              <a:off x="239040" y="396720"/>
              <a:ext cx="118440" cy="12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8100000"/>
            </a:gradFill>
            <a:ln w="0">
              <a:noFill/>
            </a:ln>
            <a:effectLst>
              <a:outerShdw dist="12727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2" name="椭圆 13" descr=""/>
            <p:cNvPicPr/>
            <p:nvPr/>
          </p:nvPicPr>
          <p:blipFill>
            <a:blip r:embed="rId1"/>
            <a:stretch/>
          </p:blipFill>
          <p:spPr>
            <a:xfrm>
              <a:off x="224280" y="341640"/>
              <a:ext cx="217080" cy="1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椭圆 29"/>
            <p:cNvSpPr/>
            <p:nvPr/>
          </p:nvSpPr>
          <p:spPr>
            <a:xfrm rot="16200000">
              <a:off x="239040" y="245520"/>
              <a:ext cx="118440" cy="12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8100000"/>
            </a:gradFill>
            <a:ln w="0">
              <a:noFill/>
            </a:ln>
            <a:effectLst>
              <a:outerShdw dist="12727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4" name="椭圆 30" descr=""/>
            <p:cNvPicPr/>
            <p:nvPr/>
          </p:nvPicPr>
          <p:blipFill>
            <a:blip r:embed="rId2"/>
            <a:stretch/>
          </p:blipFill>
          <p:spPr>
            <a:xfrm>
              <a:off x="224280" y="207720"/>
              <a:ext cx="217080" cy="1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圆角矩形 31" descr=""/>
            <p:cNvPicPr/>
            <p:nvPr/>
          </p:nvPicPr>
          <p:blipFill>
            <a:blip r:embed="rId3"/>
            <a:stretch/>
          </p:blipFill>
          <p:spPr>
            <a:xfrm>
              <a:off x="0" y="360720"/>
              <a:ext cx="366120" cy="1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圆角矩形 32" descr=""/>
            <p:cNvPicPr/>
            <p:nvPr/>
          </p:nvPicPr>
          <p:blipFill>
            <a:blip r:embed="rId4"/>
            <a:stretch/>
          </p:blipFill>
          <p:spPr>
            <a:xfrm>
              <a:off x="0" y="327240"/>
              <a:ext cx="366120" cy="1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圆角矩形 33" descr=""/>
            <p:cNvPicPr/>
            <p:nvPr/>
          </p:nvPicPr>
          <p:blipFill>
            <a:blip r:embed="rId5"/>
            <a:stretch/>
          </p:blipFill>
          <p:spPr>
            <a:xfrm>
              <a:off x="0" y="223920"/>
              <a:ext cx="366120" cy="1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圆角矩形 34" descr=""/>
            <p:cNvPicPr/>
            <p:nvPr/>
          </p:nvPicPr>
          <p:blipFill>
            <a:blip r:embed="rId6"/>
            <a:stretch/>
          </p:blipFill>
          <p:spPr>
            <a:xfrm>
              <a:off x="0" y="190440"/>
              <a:ext cx="36612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0" name="圆角矩形 4" descr=""/>
            <p:cNvPicPr/>
            <p:nvPr/>
          </p:nvPicPr>
          <p:blipFill>
            <a:blip r:embed="rId7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2" name="椭圆 8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3" name="椭圆 9" descr=""/>
              <p:cNvPicPr/>
              <p:nvPr/>
            </p:nvPicPr>
            <p:blipFill>
              <a:blip r:embed="rId8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椭圆 10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1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16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0" name="文本框 3"/>
          <p:cNvSpPr/>
          <p:nvPr/>
        </p:nvSpPr>
        <p:spPr>
          <a:xfrm>
            <a:off x="5749920" y="20224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 txBox="1"/>
          <p:nvPr/>
        </p:nvSpPr>
        <p:spPr>
          <a:xfrm>
            <a:off x="279360" y="894960"/>
            <a:ext cx="8229600" cy="60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、在（   ）里填上适当的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一支粉笔的长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         7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掌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(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铅笔盒长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                    8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毛巾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9(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室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                                 9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学楼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(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棵树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(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                10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妈妈的身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5(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明的身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0(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                   1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铅笔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(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操场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0(     )                                1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室门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3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15" name="椭圆 8"/>
              <p:cNvSpPr/>
              <p:nvPr/>
            </p:nvSpPr>
            <p:spPr>
              <a:xfrm rot="16200000">
                <a:off x="243000" y="36072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6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椭圆 10"/>
              <p:cNvSpPr/>
              <p:nvPr/>
            </p:nvSpPr>
            <p:spPr>
              <a:xfrm rot="16200000">
                <a:off x="243000" y="234000"/>
                <a:ext cx="9900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8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圆角矩形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0" name="圆角矩形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1" name="圆角矩形 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6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3" name="文本框 5"/>
          <p:cNvSpPr/>
          <p:nvPr/>
        </p:nvSpPr>
        <p:spPr>
          <a:xfrm>
            <a:off x="3852360" y="1363680"/>
            <a:ext cx="6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7"/>
          <p:cNvSpPr/>
          <p:nvPr/>
        </p:nvSpPr>
        <p:spPr>
          <a:xfrm>
            <a:off x="2975040" y="1882800"/>
            <a:ext cx="10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11"/>
          <p:cNvSpPr/>
          <p:nvPr/>
        </p:nvSpPr>
        <p:spPr>
          <a:xfrm>
            <a:off x="2139840" y="247176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13"/>
          <p:cNvSpPr/>
          <p:nvPr/>
        </p:nvSpPr>
        <p:spPr>
          <a:xfrm>
            <a:off x="2527560" y="2906640"/>
            <a:ext cx="4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26"/>
          <p:cNvSpPr/>
          <p:nvPr/>
        </p:nvSpPr>
        <p:spPr>
          <a:xfrm>
            <a:off x="3175560" y="3424320"/>
            <a:ext cx="6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27"/>
          <p:cNvSpPr/>
          <p:nvPr/>
        </p:nvSpPr>
        <p:spPr>
          <a:xfrm>
            <a:off x="2265120" y="3941640"/>
            <a:ext cx="4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28"/>
          <p:cNvSpPr/>
          <p:nvPr/>
        </p:nvSpPr>
        <p:spPr>
          <a:xfrm>
            <a:off x="7043760" y="1420920"/>
            <a:ext cx="6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29"/>
          <p:cNvSpPr/>
          <p:nvPr/>
        </p:nvSpPr>
        <p:spPr>
          <a:xfrm>
            <a:off x="7328880" y="1901880"/>
            <a:ext cx="6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文本框 30"/>
          <p:cNvSpPr/>
          <p:nvPr/>
        </p:nvSpPr>
        <p:spPr>
          <a:xfrm>
            <a:off x="7696800" y="2382840"/>
            <a:ext cx="4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31"/>
          <p:cNvSpPr/>
          <p:nvPr/>
        </p:nvSpPr>
        <p:spPr>
          <a:xfrm>
            <a:off x="7457040" y="2989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32"/>
          <p:cNvSpPr/>
          <p:nvPr/>
        </p:nvSpPr>
        <p:spPr>
          <a:xfrm>
            <a:off x="7505640" y="348624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33"/>
          <p:cNvSpPr/>
          <p:nvPr/>
        </p:nvSpPr>
        <p:spPr>
          <a:xfrm>
            <a:off x="7601760" y="40068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6:19Z</dcterms:modified>
  <cp:revision>1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